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8FB-8E32-43F7-B03C-B5EABDA5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280-2516-40CF-BA76-1F51E9F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B00-7D31-499B-AD6D-FFA80FD6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60D-D7B3-4C7C-BF28-3DC75150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287-DD53-4C82-9982-C942EE43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571-138F-47FA-8877-82C3A623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BB4-507B-4254-AA7B-8B06AE7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B9E-42CF-4E26-B9BB-728AEC2B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DF5-A8C7-40F7-8A1B-5A20CD08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444-9F6E-4A45-97F4-847A305C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8E6-D933-4189-8C97-5D58E7C9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6F8-1187-4C13-ABD8-25FE676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1F1-7237-4AF0-B788-49C686D0D4B5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270160" y="2565360"/>
            <a:ext cx="60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语文园地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48400" y="105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71640" y="54878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365640" y="140328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帆船风儿吹着走，远洋轮船走五洲。挖泥船疏通航道，潜水艇儿海底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捕鱼船儿把网拉，宇宙飞船上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365640" y="98100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轮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（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轮船大，像座楼，房间走廊样样有。乘上长江大轮船，水浪哗哗去旅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到南京，到汉口，床走人走水也走。回到家里住大楼，夜里梦见大楼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2340000" y="1700280"/>
            <a:ext cx="136836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484360" y="17859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27280" y="227664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7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桃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会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茂盛。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4032360" y="26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ch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é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 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饭、盛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2050920" y="1700280"/>
            <a:ext cx="136872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9564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40000" y="227664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8"/>
          <p:cNvSpPr/>
          <p:nvPr/>
        </p:nvSpPr>
        <p:spPr>
          <a:xfrm>
            <a:off x="3419640" y="1700280"/>
            <a:ext cx="1368360" cy="1297080"/>
          </a:xfrm>
          <a:prstGeom prst="ellipse">
            <a:avLst/>
          </a:prstGeom>
          <a:solidFill>
            <a:srgbClr val="eb6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6400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床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铺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780000" y="2279520"/>
            <a:ext cx="93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4788000" y="1628640"/>
            <a:ext cx="1368360" cy="1295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932360" y="1700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148360" y="220500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"/>
          <p:cNvSpPr/>
          <p:nvPr/>
        </p:nvSpPr>
        <p:spPr>
          <a:xfrm>
            <a:off x="6156360" y="1628640"/>
            <a:ext cx="1368360" cy="1295640"/>
          </a:xfrm>
          <a:prstGeom prst="ellipse">
            <a:avLst/>
          </a:prstGeom>
          <a:solidFill>
            <a:srgbClr val="a9899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300720" y="1714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443640" y="220500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7"/>
          <p:cNvSpPr/>
          <p:nvPr/>
        </p:nvSpPr>
        <p:spPr>
          <a:xfrm>
            <a:off x="1979640" y="4149720"/>
            <a:ext cx="1368360" cy="1295280"/>
          </a:xfrm>
          <a:prstGeom prst="ellipse">
            <a:avLst/>
          </a:prstGeom>
          <a:solidFill>
            <a:srgbClr val="bade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268360" y="4724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12400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3348000" y="4151160"/>
            <a:ext cx="1368360" cy="1297080"/>
          </a:xfrm>
          <a:prstGeom prst="ellipse">
            <a:avLst/>
          </a:prstGeom>
          <a:solidFill>
            <a:srgbClr val="8a87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635280" y="472752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3492360" y="4222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3"/>
          <p:cNvSpPr/>
          <p:nvPr/>
        </p:nvSpPr>
        <p:spPr>
          <a:xfrm>
            <a:off x="4716360" y="4149720"/>
            <a:ext cx="1368360" cy="129528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003640" y="4724280"/>
            <a:ext cx="10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4859280" y="422100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6"/>
          <p:cNvSpPr/>
          <p:nvPr/>
        </p:nvSpPr>
        <p:spPr>
          <a:xfrm>
            <a:off x="6084720" y="4149720"/>
            <a:ext cx="1366920" cy="1295280"/>
          </a:xfrm>
          <a:prstGeom prst="ellipse">
            <a:avLst/>
          </a:prstGeom>
          <a:solidFill>
            <a:srgbClr val="9986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6372360" y="472428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22764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9"/>
          <p:cNvSpPr/>
          <p:nvPr/>
        </p:nvSpPr>
        <p:spPr>
          <a:xfrm>
            <a:off x="7451640" y="4149720"/>
            <a:ext cx="1368360" cy="12952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7740720" y="4724280"/>
            <a:ext cx="107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7596360" y="4221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2"/>
          <p:cNvSpPr/>
          <p:nvPr/>
        </p:nvSpPr>
        <p:spPr>
          <a:xfrm>
            <a:off x="7524720" y="1630440"/>
            <a:ext cx="1368360" cy="129708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7812000" y="220680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667640" y="170352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2573280" y="299736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根据词语的意思来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加点的多音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3059280" y="1989000"/>
            <a:ext cx="1368360" cy="129564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916360" y="1989000"/>
            <a:ext cx="208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顽皮地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708360" y="2492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5724360" y="1919160"/>
            <a:ext cx="1368720" cy="129564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6012000" y="2495520"/>
            <a:ext cx="57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796000" y="1990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不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5796000" y="4222800"/>
            <a:ext cx="1368360" cy="12970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6516720" y="479916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5940360" y="42958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跟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2"/>
          <p:cNvSpPr/>
          <p:nvPr/>
        </p:nvSpPr>
        <p:spPr>
          <a:xfrm>
            <a:off x="3059280" y="4221000"/>
            <a:ext cx="1368360" cy="129564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3348000" y="4797360"/>
            <a:ext cx="61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203640" y="4292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2340000" y="1892160"/>
            <a:ext cx="66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标点符号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中有停顿，加只小蝌蚪（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句话说完，画个小圆圈（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疑惑或发问，耳朵坠耳环（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命令或感叹，滴水下屋檐（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37500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337428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427640" y="21337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 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4500720" y="105264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清清天气晴，小小青蛙大眼睛。保护禾苗吃害虫，做了不少好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330280" y="86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趣的儿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3590280" y="530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找找看，这首儿歌里哪些字很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518000" y="104292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清天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小小青蛙大眼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保护禾苗吃害虫，做了不少好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2268360" y="147492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 爸 吧    包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饱 抱 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放 防 房    青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 晴 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妈 蚂 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166640" y="42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4550760" y="5148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19640" y="333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救护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用来（     ）的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3798720" y="765000"/>
            <a:ext cx="32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趣味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饭能吃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水把茶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足快快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手轻轻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衣穿长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火放鞭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421416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又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3132000" y="5373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形旁表义  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  ）  好（  ）  尾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子 （  ）学  正（  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蚁   是（  ） 开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  ）  （  ）天  （  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尾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子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学  正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蚁   是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天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志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276720" y="4941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老骥伏枥，志在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烈士暮年，壮心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 rot="20739600">
            <a:off x="1861920" y="1503360"/>
            <a:ext cx="313056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9" descr=""/>
          <p:cNvPicPr/>
          <p:nvPr/>
        </p:nvPicPr>
        <p:blipFill>
          <a:blip r:embed="rId2"/>
          <a:stretch/>
        </p:blipFill>
        <p:spPr>
          <a:xfrm rot="1819800">
            <a:off x="5627160" y="1481040"/>
            <a:ext cx="3089520" cy="231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" descr=""/>
          <p:cNvPicPr/>
          <p:nvPr/>
        </p:nvPicPr>
        <p:blipFill>
          <a:blip r:embed="rId3"/>
          <a:stretch/>
        </p:blipFill>
        <p:spPr>
          <a:xfrm rot="1199400">
            <a:off x="2298600" y="4257720"/>
            <a:ext cx="274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 rot="19762800">
            <a:off x="5681160" y="42955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"/>
          <p:cNvPicPr/>
          <p:nvPr/>
        </p:nvPicPr>
        <p:blipFill>
          <a:blip r:embed="rId5"/>
          <a:stretch/>
        </p:blipFill>
        <p:spPr>
          <a:xfrm>
            <a:off x="3887640" y="2565360"/>
            <a:ext cx="2880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鲁班为什么会发明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3708360" y="1916280"/>
            <a:ext cx="29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善于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勤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乐于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胆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2411280" y="1916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文中的这些伟人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411280" y="3689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觉得他们为什么会取得成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课外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2195640" y="249228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请大家再去找一些名人的故事来阅读，还可以和同学一起讲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38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2987640" y="15066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916360" y="37544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006720" y="1628640"/>
            <a:ext cx="531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摩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防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渔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货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轮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3365640" y="1052640"/>
            <a:ext cx="430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板凳，连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做汽车开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邮政车，穿绿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信件包裹装肚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救护车，穿白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人伤员抱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消防车，穿红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喷水灭火跑得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轿车排成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颜色真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追我赶跑得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像汽车在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共汽车可真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椅子整齐排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走过一站又一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上他下都是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货车长又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货物满满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乡村到处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设祖国立功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292720" y="141444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195640" y="50148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洒水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洗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洗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啦啦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消防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灭火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灭火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救护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救病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803920" y="1197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56000" y="4653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6:46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